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B6C5B-8B50-49EE-ABF6-1B3D128F0F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9FFBF-55F5-4E56-BCA6-6B2F4E1D05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850560"/>
            <a:ext cx="83822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850560"/>
            <a:ext cx="409032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6040" y="3850560"/>
            <a:ext cx="409032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850560"/>
            <a:ext cx="269892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15160" y="3850560"/>
            <a:ext cx="269892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49440" y="3850560"/>
            <a:ext cx="269892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9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92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92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92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8800" y="162000"/>
            <a:ext cx="8374320" cy="32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92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850560"/>
            <a:ext cx="409032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92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6040" y="3850560"/>
            <a:ext cx="409032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850560"/>
            <a:ext cx="83822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92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1008000"/>
            <a:ext cx="914400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26520" y="6470640"/>
            <a:ext cx="29840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Copyright </a:t>
            </a:r>
            <a:r>
              <a:rPr b="0" lang="en-US" sz="1000" spc="-1" strike="noStrike">
                <a:solidFill>
                  <a:srgbClr val="fafd00"/>
                </a:solidFill>
                <a:latin typeface="Arial"/>
                <a:ea typeface="Arial"/>
              </a:rPr>
              <a:t>©</a:t>
            </a: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 2003 Pearson Education Canada Inc.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924680" y="6478560"/>
            <a:ext cx="97164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Slide 20-</a:t>
            </a:r>
            <a:fld id="{B2089C48-8090-489E-9E1D-A813C8F9A3B4}" type="slidenum">
              <a:rPr b="0" lang="en-US" sz="10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47280" y="1825560"/>
            <a:ext cx="7543800" cy="322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hapter 20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Inventory Management, Just-in-Time, and Backflush Costing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ventory Manag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8382240" cy="210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52560"/>
                <a:tab algn="l" pos="2106720"/>
                <a:tab algn="l" pos="2395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 retail organizations, look at purchasing costs, ordering costs, carrying costs, stockout costs and quality cos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52560"/>
                <a:tab algn="l" pos="2106720"/>
                <a:tab algn="l" pos="2395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conomic order quantity (EOQ) model calculates the optimal quantity to order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705720" y="647712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738 - 743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762120" y="3276720"/>
            <a:ext cx="7772400" cy="2819160"/>
            <a:chOff x="762120" y="3276720"/>
            <a:chExt cx="7772400" cy="2819160"/>
          </a:xfrm>
        </p:grpSpPr>
        <p:sp>
          <p:nvSpPr>
            <p:cNvPr id="53" name=""/>
            <p:cNvSpPr/>
            <p:nvPr/>
          </p:nvSpPr>
          <p:spPr>
            <a:xfrm>
              <a:off x="762120" y="3276720"/>
              <a:ext cx="7772400" cy="281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 fontScale="96000"/>
            </a:bodyPr>
            <a:p>
              <a:pPr marL="329040" indent="-329040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52560"/>
                  <a:tab algn="l" pos="2106720"/>
                  <a:tab algn="l" pos="2395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29040" indent="-32904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52560"/>
                  <a:tab algn="l" pos="2106720"/>
                  <a:tab algn="l" pos="2395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EOQ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=  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29040" indent="-32904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52560"/>
                  <a:tab algn="l" pos="2106720"/>
                  <a:tab algn="l" pos="2395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29040" indent="-32904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52560"/>
                  <a:tab algn="l" pos="2106720"/>
                  <a:tab algn="l" pos="2395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where 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D = demand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29040" indent="-32904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52560"/>
                  <a:tab algn="l" pos="2106720"/>
                  <a:tab algn="l" pos="2395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P = cost of an order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29040" indent="-32904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52560"/>
                  <a:tab algn="l" pos="2106720"/>
                  <a:tab algn="l" pos="2395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C = carrying costs of one unit for the 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time period under consideration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590920" y="3505320"/>
              <a:ext cx="114300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 fontScale="92000"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52560"/>
                  <a:tab algn="l" pos="2106720"/>
                  <a:tab algn="l" pos="2395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2DP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52560"/>
                  <a:tab algn="l" pos="2106720"/>
                  <a:tab algn="l" pos="2395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819520" y="3962520"/>
              <a:ext cx="60948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362320" y="3429000"/>
              <a:ext cx="1133280" cy="914400"/>
            </a:xfrm>
            <a:custGeom>
              <a:avLst/>
              <a:gdLst/>
              <a:ahLst/>
              <a:rect l="l" t="t" r="r" b="b"/>
              <a:pathLst>
                <a:path w="714" h="576">
                  <a:moveTo>
                    <a:pt x="0" y="474"/>
                  </a:moveTo>
                  <a:lnTo>
                    <a:pt x="54" y="450"/>
                  </a:lnTo>
                  <a:lnTo>
                    <a:pt x="114" y="576"/>
                  </a:lnTo>
                  <a:lnTo>
                    <a:pt x="234" y="0"/>
                  </a:lnTo>
                  <a:lnTo>
                    <a:pt x="714" y="0"/>
                  </a:lnTo>
                </a:path>
              </a:pathLst>
            </a:custGeom>
            <a:noFill/>
            <a:ln w="2844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ventory Mod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38080" y="2514600"/>
            <a:ext cx="152424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52560"/>
                <a:tab algn="l" pos="2106720"/>
                <a:tab algn="l" pos="2395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Inventory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52560"/>
                <a:tab algn="l" pos="2106720"/>
                <a:tab algn="l" pos="2395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In Units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705720" y="647712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741 - 742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981080" y="1676520"/>
            <a:ext cx="106704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52560"/>
                <a:tab algn="l" pos="2106720"/>
                <a:tab algn="l" pos="2395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1,00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52560"/>
                <a:tab algn="l" pos="2106720"/>
                <a:tab algn="l" pos="2395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52560"/>
                <a:tab algn="l" pos="2106720"/>
                <a:tab algn="l" pos="2395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52560"/>
                <a:tab algn="l" pos="2106720"/>
                <a:tab algn="l" pos="2395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50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52560"/>
                <a:tab algn="l" pos="2106720"/>
                <a:tab algn="l" pos="2395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52560"/>
                <a:tab algn="l" pos="2106720"/>
                <a:tab algn="l" pos="2395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52560"/>
                <a:tab algn="l" pos="2106720"/>
                <a:tab algn="l" pos="2395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362320" y="4267080"/>
            <a:ext cx="6705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52560"/>
                <a:tab algn="l" pos="2106720"/>
                <a:tab algn="l" pos="2395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Weeks      1       2       3       4       5       6       7      8 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59092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200400" y="3962520"/>
            <a:ext cx="533412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200400" y="1828800"/>
            <a:ext cx="2438280" cy="213372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638680" y="1828800"/>
            <a:ext cx="2438640" cy="213372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638680" y="1828800"/>
            <a:ext cx="0" cy="213372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200400" y="2895480"/>
            <a:ext cx="1143000" cy="0"/>
          </a:xfrm>
          <a:prstGeom prst="line">
            <a:avLst/>
          </a:prstGeom>
          <a:ln w="28440">
            <a:solidFill>
              <a:srgbClr val="fafd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638680" y="2895480"/>
            <a:ext cx="1143000" cy="0"/>
          </a:xfrm>
          <a:prstGeom prst="line">
            <a:avLst/>
          </a:prstGeom>
          <a:ln w="28440">
            <a:solidFill>
              <a:srgbClr val="fafd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6858000" y="2895480"/>
            <a:ext cx="0" cy="1067040"/>
          </a:xfrm>
          <a:prstGeom prst="line">
            <a:avLst/>
          </a:prstGeom>
          <a:ln w="28440">
            <a:solidFill>
              <a:srgbClr val="fafd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4343400" y="2895480"/>
            <a:ext cx="0" cy="1067040"/>
          </a:xfrm>
          <a:prstGeom prst="line">
            <a:avLst/>
          </a:prstGeom>
          <a:ln w="28440">
            <a:solidFill>
              <a:srgbClr val="fafd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267080" y="4952880"/>
            <a:ext cx="152424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52560"/>
                <a:tab algn="l" pos="2106720"/>
                <a:tab algn="l" pos="2395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Lead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52560"/>
                <a:tab algn="l" pos="2106720"/>
                <a:tab algn="l" pos="2395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Tim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52560"/>
                <a:tab algn="l" pos="2106720"/>
                <a:tab algn="l" pos="2395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2 Week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781680" y="4952880"/>
            <a:ext cx="152424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52560"/>
                <a:tab algn="l" pos="2106720"/>
                <a:tab algn="l" pos="2395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Lead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52560"/>
                <a:tab algn="l" pos="2106720"/>
                <a:tab algn="l" pos="2395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Tim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52560"/>
                <a:tab algn="l" pos="2106720"/>
                <a:tab algn="l" pos="2395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2 Week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4419360" y="2057400"/>
            <a:ext cx="228600" cy="68580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809880" y="1371600"/>
            <a:ext cx="15242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52560"/>
                <a:tab algn="l" pos="2106720"/>
                <a:tab algn="l" pos="2395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Reorder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52560"/>
                <a:tab algn="l" pos="2106720"/>
                <a:tab algn="l" pos="2395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oint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7009920" y="2057400"/>
            <a:ext cx="228600" cy="68580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400800" y="1371600"/>
            <a:ext cx="15238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52560"/>
                <a:tab algn="l" pos="2106720"/>
                <a:tab algn="l" pos="2395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Reorder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52560"/>
                <a:tab algn="l" pos="2106720"/>
                <a:tab algn="l" pos="2395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oint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V="1" rot="16200000">
            <a:off x="4914720" y="4152240"/>
            <a:ext cx="228600" cy="1218960"/>
          </a:xfrm>
          <a:custGeom>
            <a:avLst/>
            <a:gdLst>
              <a:gd name="textAreaLeft" fmla="*/ 146160 w 228600"/>
              <a:gd name="textAreaRight" fmla="*/ 228960 w 228600"/>
              <a:gd name="textAreaTop" fmla="*/ 31680 h 1218960"/>
              <a:gd name="textAreaBottom" fmla="*/ 1187280 h 1218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 rot="16200000">
            <a:off x="7429320" y="4152240"/>
            <a:ext cx="228600" cy="1218960"/>
          </a:xfrm>
          <a:custGeom>
            <a:avLst/>
            <a:gdLst>
              <a:gd name="textAreaLeft" fmla="*/ 146160 w 228600"/>
              <a:gd name="textAreaRight" fmla="*/ 228960 w 228600"/>
              <a:gd name="textAreaTop" fmla="*/ 31680 h 1218960"/>
              <a:gd name="textAreaBottom" fmla="*/ 1187280 h 1218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04920" y="5257800"/>
            <a:ext cx="3276360" cy="838080"/>
          </a:xfrm>
          <a:prstGeom prst="rect">
            <a:avLst/>
          </a:prstGeom>
          <a:noFill/>
          <a:ln w="93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52560"/>
                <a:tab algn="l" pos="2106720"/>
                <a:tab algn="l" pos="2395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Demand = 250 / week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52560"/>
                <a:tab algn="l" pos="2106720"/>
                <a:tab algn="l" pos="2395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Order lead time 2 week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Just-In-Time Purchas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791712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Just-In-Time (JIT) purchasing refers to the purchase of goods or materials just prior to demand or us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quires a more open relationship with suppliers and smaller, more frequent order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imely delivery of quality products is crucial in JIT purchasing environmen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mpanies employing JIT choose suppliers carefully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nsider the entire supply chain from cradle to grave (womb to tomb) and share information with all parties involved in the system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705720" y="647712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744 - 749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terials Requirements Plann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terials requirements planning (MRP) is a push-through system that manufactures finished goods for inventory on the basis of demand forecas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-3394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RP us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emand forecasts for the final produc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 bill of materials for each produc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he quantities of materials, components and finished products to predetermine the necessary outputs at each stage of production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nterprise Resource Planning (ERP) systems collects and manages information into a single database to support the achievement of the organization’s goal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05720" y="647712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750 - 755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380880" y="1371600"/>
            <a:ext cx="7772400" cy="266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quential (or synchronous) tracking is a product costing method in which the accounting system entries occur in the same order as actual purchases and production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rigger point is a stage in the production cycle at which an accounting entry is mad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ackflush Costing &amp; Trigger Poin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705720" y="647712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755 - 763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914400" y="419112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raditional Trigger Point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85800" y="4950000"/>
            <a:ext cx="1828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Purchase 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of Direct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Materials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590920" y="4951440"/>
            <a:ext cx="1828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Production 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of work in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process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572000" y="4951440"/>
            <a:ext cx="1828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Completion 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of a good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finished unit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58000" y="4951440"/>
            <a:ext cx="1143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Sale of a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finished unit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362320" y="5408640"/>
            <a:ext cx="304560" cy="0"/>
          </a:xfrm>
          <a:prstGeom prst="line">
            <a:avLst/>
          </a:prstGeom>
          <a:ln w="1908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267080" y="5408640"/>
            <a:ext cx="304920" cy="0"/>
          </a:xfrm>
          <a:prstGeom prst="line">
            <a:avLst/>
          </a:prstGeom>
          <a:ln w="1908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400800" y="5408640"/>
            <a:ext cx="304920" cy="0"/>
          </a:xfrm>
          <a:prstGeom prst="line">
            <a:avLst/>
          </a:prstGeom>
          <a:ln w="1908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ackflush Cost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705720" y="647712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755 - 763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57200" y="1219320"/>
            <a:ext cx="792468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ackflush costing is an approach to costing which delays recording changes in the status of the product until the finished goods appear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ackflush costing uses standard costs to work backward and flush out costs for the units produced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886200" y="3733920"/>
            <a:ext cx="24382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Finished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Goods Control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324480" y="3733920"/>
            <a:ext cx="24386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ost of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Goods Sold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114800" y="4419720"/>
            <a:ext cx="205740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629400" y="4419720"/>
            <a:ext cx="198108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7620120" y="4419360"/>
            <a:ext cx="0" cy="99036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5105520" y="4419720"/>
            <a:ext cx="0" cy="91440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2057400" y="4267080"/>
            <a:ext cx="2361960" cy="473040"/>
            <a:chOff x="2057400" y="4267080"/>
            <a:chExt cx="2361960" cy="473040"/>
          </a:xfrm>
        </p:grpSpPr>
        <p:sp>
          <p:nvSpPr>
            <p:cNvPr id="107" name=""/>
            <p:cNvSpPr/>
            <p:nvPr/>
          </p:nvSpPr>
          <p:spPr>
            <a:xfrm>
              <a:off x="2057400" y="4740120"/>
              <a:ext cx="2361960" cy="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361960" y="4267080"/>
              <a:ext cx="160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Direct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2209680" y="4876920"/>
            <a:ext cx="2210040" cy="457200"/>
            <a:chOff x="2209680" y="4876920"/>
            <a:chExt cx="2210040" cy="457200"/>
          </a:xfrm>
        </p:grpSpPr>
        <p:sp>
          <p:nvSpPr>
            <p:cNvPr id="110" name=""/>
            <p:cNvSpPr/>
            <p:nvPr/>
          </p:nvSpPr>
          <p:spPr>
            <a:xfrm>
              <a:off x="2209680" y="5334120"/>
              <a:ext cx="2210040" cy="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438280" y="4876920"/>
              <a:ext cx="160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Allocated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2133720" y="5257800"/>
            <a:ext cx="5029200" cy="916560"/>
            <a:chOff x="2133720" y="5257800"/>
            <a:chExt cx="5029200" cy="916560"/>
          </a:xfrm>
        </p:grpSpPr>
        <p:sp>
          <p:nvSpPr>
            <p:cNvPr id="113" name=""/>
            <p:cNvSpPr/>
            <p:nvPr/>
          </p:nvSpPr>
          <p:spPr>
            <a:xfrm>
              <a:off x="2133720" y="5715000"/>
              <a:ext cx="3733560" cy="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 flipV="1">
              <a:off x="5867280" y="5257800"/>
              <a:ext cx="1295640" cy="45720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286000" y="5775480"/>
              <a:ext cx="4191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Unallocated Conversion Costs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457200" y="4267080"/>
            <a:ext cx="1752480" cy="685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8000"/>
          </a:bodyPr>
          <a:p>
            <a:pPr marL="335880" indent="-335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Direct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35880" indent="-335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aterial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" y="5181480"/>
            <a:ext cx="1752480" cy="685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8000"/>
          </a:bodyPr>
          <a:p>
            <a:pPr marL="335880" indent="-335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onversion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35880" indent="-335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ost Control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57800" y="4556160"/>
            <a:ext cx="1905120" cy="473040"/>
            <a:chOff x="5257800" y="4556160"/>
            <a:chExt cx="1905120" cy="473040"/>
          </a:xfrm>
        </p:grpSpPr>
        <p:sp>
          <p:nvSpPr>
            <p:cNvPr id="119" name=""/>
            <p:cNvSpPr/>
            <p:nvPr/>
          </p:nvSpPr>
          <p:spPr>
            <a:xfrm>
              <a:off x="5257800" y="5029200"/>
              <a:ext cx="1905120" cy="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504040" y="4556160"/>
              <a:ext cx="1290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Sale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07T01:38:32Z</dcterms:created>
  <dc:creator>User</dc:creator>
  <dc:description/>
  <dc:language>en-US</dc:language>
  <cp:lastModifiedBy>John Moore</cp:lastModifiedBy>
  <cp:lastPrinted>1999-06-07T17:15:26Z</cp:lastPrinted>
  <dcterms:modified xsi:type="dcterms:W3CDTF">2003-03-22T13:22:57Z</dcterms:modified>
  <cp:revision>17</cp:revision>
  <dc:subject/>
  <dc:title>No Slide Title</dc:title>
</cp:coreProperties>
</file>